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14.wmf" ContentType="image/x-wmf"/>
  <Override PartName="/ppt/media/image48.wmf" ContentType="image/x-wmf"/>
  <Override PartName="/ppt/media/image42.png" ContentType="image/png"/>
  <Override PartName="/ppt/media/image26.jpeg" ContentType="image/jpeg"/>
  <Override PartName="/ppt/media/image18.wmf" ContentType="image/x-wmf"/>
  <Override PartName="/ppt/media/image36.jpeg" ContentType="image/jpeg"/>
  <Override PartName="/ppt/media/image9.jpeg" ContentType="image/jpeg"/>
  <Override PartName="/ppt/media/image51.wmf" ContentType="image/x-wmf"/>
  <Override PartName="/ppt/media/image23.wmf" ContentType="image/x-wmf"/>
  <Override PartName="/ppt/media/image62.png" ContentType="image/png"/>
  <Override PartName="/ppt/media/image34.jpeg" ContentType="image/jpeg"/>
  <Override PartName="/ppt/media/image58.wmf" ContentType="image/x-wmf"/>
  <Override PartName="/ppt/media/image40.png" ContentType="image/png"/>
  <Override PartName="/ppt/media/image4.jpeg" ContentType="image/jpeg"/>
  <Override PartName="/ppt/media/image29.wmf" ContentType="image/x-wmf"/>
  <Override PartName="/ppt/media/image1.png" ContentType="image/png"/>
  <Override PartName="/ppt/media/image5.jpeg" ContentType="image/jpeg"/>
  <Override PartName="/ppt/media/image61.png" ContentType="image/png"/>
  <Override PartName="/ppt/media/image37.jpeg" ContentType="image/jpeg"/>
  <Override PartName="/ppt/media/image28.wmf" ContentType="image/x-wmf"/>
  <Override PartName="/ppt/media/image21.wmf" ContentType="image/x-wmf"/>
  <Override PartName="/ppt/media/image60.jpeg" ContentType="image/jpeg"/>
  <Override PartName="/ppt/media/image24.jpeg" ContentType="image/jpe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27.png" ContentType="image/png"/>
  <Override PartName="/ppt/media/image30.wmf" ContentType="image/x-wmf"/>
  <Override PartName="/ppt/media/image12.wmf" ContentType="image/x-wmf"/>
  <Override PartName="/ppt/media/image49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media/image8.jpeg" ContentType="image/jpeg"/>
  <Override PartName="/ppt/media/image13.wmf" ContentType="image/x-wmf"/>
  <Override PartName="/ppt/media/image52.png" ContentType="image/png"/>
  <Override PartName="/ppt/media/image31.wmf" ContentType="image/x-wmf"/>
  <Override PartName="/ppt/media/image38.jpeg" ContentType="image/jpeg"/>
  <Override PartName="/ppt/media/image22.jpeg" ContentType="image/jpeg"/>
  <Override PartName="/ppt/media/image32.wmf" ContentType="image/x-wmf"/>
  <Override PartName="/ppt/media/image33.wmf" ContentType="image/x-wmf"/>
  <Override PartName="/ppt/media/image35.jpeg" ContentType="image/jpeg"/>
  <Override PartName="/ppt/media/image50.wmf" ContentType="image/x-wmf"/>
  <Override PartName="/ppt/media/image3.jpeg" ContentType="image/jpeg"/>
  <Override PartName="/ppt/media/image4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jpeg" ContentType="image/jpeg"/>
  <Override PartName="/ppt/media/image53.wmf" ContentType="image/x-wmf"/>
  <Override PartName="/ppt/media/image55.wmf" ContentType="image/x-wmf"/>
  <Override PartName="/ppt/media/image56.jpeg" ContentType="image/jpeg"/>
  <Override PartName="/ppt/media/image57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D5B-A99C-4A29-9079-4AD5D1F2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Resistor-Diode-Logic, but is generally never used due to practical reasons.  The earliest computers used Resistor-Transistor-Logic (RTL) or Diode-Transistor-Logic (DTL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74E6-7E25-4F09-AC2E-D43DB0A8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, then test the assumption to see if it works. 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69B-7E04-4957-AEDF-48A633DE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power dissipated to see if it is “Destructiv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93A1-992C-4302-A52E-56085080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e simulations (as in Multisim or LTSpice) use this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2D73-D2A4-4FCD-869F-4DCC0760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al solutions are a classical approach when dealing with nonlinear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ad Line is determined by the linear portion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3DF6-9913-480C-B6E7-7363E75E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job for a computer, not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F55D-65FC-42A3-9957-7576D0FC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way to accurately analyze a nonlinear system when only small perturbations from the Operating Point are present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408C-E342-4846-ABE8-0851BB5D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enclature (I will try to be consistent with the tex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F032-3C0A-4F7C-8148-656AB07F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is your first exposure to a nonlinear de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odel a diode as piecewise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orward biased – it is a battery (about 0.6 v) in series with a resistance (the slope of the V-I curv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se biased it is a small constant current source (up to the reverse breakdown voltage = Ze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n reverse breakdown again modeled as a battery (The Zener voltage) in series with a small resistance as in the forward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DD5-141A-4A31-B058-CCBAA513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great voltage regulator, but is instru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6795-8EBC-44DD-8E39-82E65452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“shunt” regulator (shunts excess current from going through the lo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calculate the percentage of regulation – (Percent output change)/(Percent input change) times 100 of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1DDB-789A-4F4E-A02D-2A48C7C2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mewhat better way to built a shunt regulator.  The diode is used in reverse 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AA76-3146-448F-BDF1-4A2641DB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s indicate a “full-wave” rectif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629A-09E4-4B9A-87F7-708CE726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Cathode” is marked on the diode by a stripe near that ter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EEB-F3F4-4F13-8D90-3193CD89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buy Bridge Rectifier modules at Radio Sh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DC7-A375-44D8-B051-61D52FC5D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you need to be careful to control groun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3AEE-FC30-4F58-AC8E-5EA69010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ripple, not rem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02D8-CDA9-4975-BF11-C1160EFF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lace transforms are introduced in both the Differential Equations math course and the second Circuits course.  They are heavily used in the Signals and Systems and Feedback Control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B472-436F-4B88-BF23-A65535900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urse there is always some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566B-A21D-45E4-835C-B45D25A6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steady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ode conducts when the input voltage is above the capacitor voltage and the capacitor charges up to the peak voltage of the sinus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input voltage is below the capacitor voltage, the capacitor discharges due to the load current.  The discharge is approximately linear if the ripple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022F-55A4-4F37-8F83-5807F39B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Where does the OpAmp get its p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A0C6-DB6D-4C6D-8693-6219F246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is a symmetric lim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049-455C-4904-8BF2-AFA8D2DB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lways have a limiter in a system whether or not it is desir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D492-8ABB-40B4-A3F3-189E7E39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store the DC value to any desired amount by connecting the diode to a voltag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8DAC-5709-46CF-86E7-575D77D7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s the ripple period of a half wave rectif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74B6-11DE-4447-B89A-BB900467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9B63-E73B-47A0-9F29-421B0ED51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C93E-73D0-4761-BA4E-D46BF8A5D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018F-99FB-4C84-8B66-A21F5112E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3303-2E6F-49E3-A1D8-89FC21BC35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8C46-52AE-4934-8776-D404CA1FD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3DED-5252-42F8-A737-7E83FDE70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079A-5522-40A7-8AA3-7738DCC66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2FAA-1136-42B1-88D5-536906B7E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3820-192E-4AA5-AE0E-50C6AF590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B6E2-4E6B-4B05-A579-5C2220267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986F-61D4-4F56-B2E0-2E20D1CBA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849A-9504-4EEA-BC76-06BB60FFE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DC5-AC4E-4FBE-B950-B5AE7904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208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alibri"/>
              </a:rPr>
              <a:t>Chapter #4: </a:t>
            </a:r>
            <a:r>
              <a:rPr b="0" lang="en-US" sz="6000" spc="-1" strike="noStrike">
                <a:solidFill>
                  <a:srgbClr val="3333ff"/>
                </a:solidFill>
                <a:latin typeface="Calibri"/>
              </a:rPr>
              <a:t>Diodes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d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724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he circuit of Figure 4.4.  A source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i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eak amplitude of 24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mployed to charge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dc-bat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fraction of each cycle during which the diode con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peak value of diode current and maximum reverse-bias voltage that appears across the di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060880" y="1335240"/>
            <a:ext cx="3702240" cy="4303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4952880" y="57754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and Waveforms for Example 4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yond a certain value of reverse voltage (that depends on the diode itself), breakdown occurs and current increases rapidly with a small corresponding increase in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odes designed to operate in the breakdown region are called zener diodes.  They are employed in the design of voltage regulators whose function is to provide a constant dc voltage that varies little with variations in power supply voltage and / or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other Applicatio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ode Logic Gat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y diodes be us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reate logic 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ample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D / OR 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hown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Refer to next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se04F05"/>
          <p:cNvPicPr/>
          <p:nvPr/>
        </p:nvPicPr>
        <p:blipFill>
          <a:blip r:embed="rId1"/>
          <a:stretch/>
        </p:blipFill>
        <p:spPr>
          <a:xfrm>
            <a:off x="4572000" y="2057400"/>
            <a:ext cx="4302000" cy="2511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572000" y="48006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ode logic g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gate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gate (in a positive-logic syste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se04F05"/>
          <p:cNvPicPr/>
          <p:nvPr/>
        </p:nvPicPr>
        <p:blipFill>
          <a:blip r:embed="rId1"/>
          <a:stretch/>
        </p:blipFill>
        <p:spPr>
          <a:xfrm>
            <a:off x="914400" y="2581200"/>
            <a:ext cx="7848720" cy="458172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1371600" y="266688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2860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 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0060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D 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1523880"/>
            <a:ext cx="373356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diod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will conduc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52280" y="5883120"/>
            <a:ext cx="289584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y diode conduct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800600" y="1523880"/>
            <a:ext cx="373392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diod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will conduc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486040" y="457200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581280" y="4572000"/>
            <a:ext cx="609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+ 5V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848720" y="3352680"/>
            <a:ext cx="609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+ 5V 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572000" y="0"/>
            <a:ext cx="0" cy="723888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267080" y="3048120"/>
            <a:ext cx="289584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 diodes block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2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7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iculties are associated with multi-di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nnot be solved without knowledge of diodes’ status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Yet, statuses are dependent on the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 rot="5400000">
            <a:off x="6762960" y="3978720"/>
            <a:ext cx="40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gure 4.4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ircuit and Waveforms for Example 4.1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se04F06"/>
          <p:cNvPicPr/>
          <p:nvPr/>
        </p:nvPicPr>
        <p:blipFill>
          <a:blip r:embed="rId1"/>
          <a:stretch/>
        </p:blipFill>
        <p:spPr>
          <a:xfrm>
            <a:off x="4800600" y="2057400"/>
            <a:ext cx="4086360" cy="2933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569480" y="5334120"/>
            <a:ext cx="45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6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s for Example 4.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48320" y="228600"/>
            <a:ext cx="4267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o apply nodal / mesh techniques, one must have knowledge of all component impeda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0"/>
          <p:cNvSpPr/>
          <p:nvPr/>
        </p:nvSpPr>
        <p:spPr>
          <a:xfrm flipH="1" flipV="1">
            <a:off x="5486400" y="3657600"/>
            <a:ext cx="144792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724280" y="5867280"/>
            <a:ext cx="426744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&lt; 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D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ohm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LS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D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open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2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one solve these circu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must use the following step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ssume the status of all di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solve via mesh / nod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heck for coh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2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eck for coh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ust ask the following question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calculated voltages across all “assumed conducting” diodes forward-bias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the calculated currents through all “assumed blocking” diodes ze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does one do, if the solutio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cohe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mu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nge one or more of these assum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olve as well as check for coherence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7162920" y="914400"/>
            <a:ext cx="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9880" y="228600"/>
            <a:ext cx="51055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f answer to either of thes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then the solution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hysically realizabl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inal Characteri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Junction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common implemen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diode utilizes pn j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-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ve 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 characteristic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bia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rse bia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down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5486400" y="685800"/>
            <a:ext cx="1295280" cy="304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724280" y="152280"/>
            <a:ext cx="4267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scontinuity caused by differences in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8229600" y="2057400"/>
            <a:ext cx="685800" cy="3505320"/>
          </a:xfrm>
          <a:prstGeom prst="ellipse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6858000" y="2057400"/>
            <a:ext cx="1371600" cy="3505320"/>
          </a:xfrm>
          <a:prstGeom prst="ellipse">
            <a:avLst/>
          </a:prstGeom>
          <a:solidFill>
            <a:srgbClr val="3333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5486400" y="2057400"/>
            <a:ext cx="1371600" cy="3505320"/>
          </a:xfrm>
          <a:prstGeom prst="ellipse">
            <a:avLst/>
          </a:prstGeom>
          <a:solidFill>
            <a:srgbClr val="ff993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ward-bias reg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operation is entered wh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 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-V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osely approximated by equations to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802040" y="1488960"/>
          <a:ext cx="411336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2040" y="1488960"/>
                    <a:ext cx="4113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9"/>
          <p:cNvSpPr/>
          <p:nvPr/>
        </p:nvSpPr>
        <p:spPr>
          <a:xfrm>
            <a:off x="2133720" y="6019920"/>
            <a:ext cx="3352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280" y="5638680"/>
            <a:ext cx="42674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(4.3) is a simplification suitable for larg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 (4.3) may b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versed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yield (4.4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relationship applies over as many 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ven decades of cur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952880" y="2540160"/>
          <a:ext cx="37386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40160"/>
                    <a:ext cx="37386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relativ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ffect of current flow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forward biasing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x chang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ffects 6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Object 7"/>
          <p:cNvGraphicFramePr/>
          <p:nvPr/>
        </p:nvGraphicFramePr>
        <p:xfrm>
          <a:off x="4853160" y="304920"/>
          <a:ext cx="3985920" cy="63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3160" y="304920"/>
                    <a:ext cx="398592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WE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haracteristics of the ideal di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how to analyze and design circuits containing multiple ideal diodes together with resistors and dc sources to realize useful and interesting nonlinear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tails of the i-v characterist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junction diode (which was derived in Chapter 3) and how to use it to analyze diode circuits operating in the various bias regions: forward, reverse, and break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but effective model of the diode i-v characteristic in the forward direction: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nstant-voltage-drop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t-in vol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voltage, below which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nimal cur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 0.5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ully conducting reg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gion in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i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pproximately equal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.6 and 0.8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7848720" y="2057400"/>
            <a:ext cx="457200" cy="350532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9"/>
          <p:cNvSpPr/>
          <p:nvPr/>
        </p:nvSpPr>
        <p:spPr>
          <a:xfrm flipV="1">
            <a:off x="8077320" y="55623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724280" y="6095880"/>
            <a:ext cx="4191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lly conducting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 to textbook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verse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305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verse-bias region of op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ntered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-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elationship,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negative voltages with |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closely approximated by equations to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Object 7"/>
          <p:cNvGraphicFramePr/>
          <p:nvPr/>
        </p:nvGraphicFramePr>
        <p:xfrm>
          <a:off x="5715000" y="1219320"/>
          <a:ext cx="2595600" cy="48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59560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Line 9"/>
          <p:cNvSpPr/>
          <p:nvPr/>
        </p:nvSpPr>
        <p:spPr>
          <a:xfrm>
            <a:off x="3352680" y="5334120"/>
            <a:ext cx="2286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verse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“real” diode exhibits reverse-bias current, although small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ch larger than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S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s.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part of this reverse current is attributed to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leakag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reakdown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eakdown reg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operation is entered wh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ZK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Zener-Knee Voltage (</a:t>
            </a:r>
            <a:r>
              <a:rPr b="1" i="1" lang="en-US" sz="32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1" i="1" lang="en-US" sz="3200" spc="-1" strike="noStrike" baseline="-25000">
                <a:solidFill>
                  <a:srgbClr val="3333ff"/>
                </a:solidFill>
                <a:latin typeface="Calibri"/>
              </a:rPr>
              <a:t>ZK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normally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destru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61016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4572000" y="2057400"/>
            <a:ext cx="914400" cy="350532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5029200" y="55623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724280" y="609588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eakdown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6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7" descr="se04F08"/>
          <p:cNvPicPr/>
          <p:nvPr/>
        </p:nvPicPr>
        <p:blipFill>
          <a:blip r:embed="rId1"/>
          <a:stretch/>
        </p:blipFill>
        <p:spPr>
          <a:xfrm>
            <a:off x="533520" y="882720"/>
            <a:ext cx="7162560" cy="5746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6"/>
          <p:cNvSpPr/>
          <p:nvPr/>
        </p:nvSpPr>
        <p:spPr>
          <a:xfrm>
            <a:off x="5257800" y="914400"/>
            <a:ext cx="3429000" cy="57150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886200" y="914400"/>
            <a:ext cx="1371600" cy="571500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2057400" y="914400"/>
            <a:ext cx="1828800" cy="5715000"/>
          </a:xfrm>
          <a:prstGeom prst="rect">
            <a:avLst/>
          </a:prstGeom>
          <a:solidFill>
            <a:srgbClr val="3333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33520" y="914400"/>
            <a:ext cx="1523880" cy="5715000"/>
          </a:xfrm>
          <a:prstGeom prst="rect">
            <a:avLst/>
          </a:prstGeom>
          <a:solidFill>
            <a:srgbClr val="d6009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2417760" y="990720"/>
          <a:ext cx="1087560" cy="60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7760" y="990720"/>
                    <a:ext cx="10875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0"/>
          <p:cNvGraphicFramePr/>
          <p:nvPr/>
        </p:nvGraphicFramePr>
        <p:xfrm>
          <a:off x="609480" y="990720"/>
          <a:ext cx="1343160" cy="61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990720"/>
                    <a:ext cx="13431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3"/>
          <p:cNvGraphicFramePr/>
          <p:nvPr/>
        </p:nvGraphicFramePr>
        <p:xfrm>
          <a:off x="6148440" y="985680"/>
          <a:ext cx="1827000" cy="69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48440" y="985680"/>
                    <a:ext cx="18270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9"/>
          <p:cNvSpPr/>
          <p:nvPr/>
        </p:nvSpPr>
        <p:spPr>
          <a:xfrm>
            <a:off x="2057400" y="914400"/>
            <a:ext cx="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886200" y="914400"/>
            <a:ext cx="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5257800" y="914400"/>
            <a:ext cx="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2"/>
          <p:cNvSpPr/>
          <p:nvPr/>
        </p:nvSpPr>
        <p:spPr>
          <a:xfrm rot="16200000">
            <a:off x="1131120" y="5650200"/>
            <a:ext cx="1295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-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Z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3"/>
          <p:cNvSpPr/>
          <p:nvPr/>
        </p:nvSpPr>
        <p:spPr>
          <a:xfrm rot="16200000">
            <a:off x="2959920" y="5650200"/>
            <a:ext cx="1295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-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331520" y="5650200"/>
            <a:ext cx="1295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2057400" y="457200"/>
            <a:ext cx="662940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9"/>
          <p:cNvGraphicFramePr/>
          <p:nvPr/>
        </p:nvGraphicFramePr>
        <p:xfrm>
          <a:off x="3314880" y="112680"/>
          <a:ext cx="2476440" cy="64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14880" y="112680"/>
                    <a:ext cx="24764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deling the Diode Forward 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vious slides define a robust set of diode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coming slides, however, discu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ified diode mod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ter suited for use in circuit analy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onentia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stant voltage-drop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diod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-signal (linearization)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exponential diod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ic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employ in circui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nonlinear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3124080" y="4648320"/>
          <a:ext cx="2880000" cy="12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648320"/>
                    <a:ext cx="288000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ircuit to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@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ethods exis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graphical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terativ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6" descr="se04F10"/>
          <p:cNvPicPr/>
          <p:nvPr/>
        </p:nvPicPr>
        <p:blipFill>
          <a:blip r:embed="rId1"/>
          <a:stretch/>
        </p:blipFill>
        <p:spPr>
          <a:xfrm>
            <a:off x="5105520" y="1752480"/>
            <a:ext cx="3209760" cy="1814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648320" y="36576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circuit used to illustrate the analysis of circuits in which the diode is forward conduc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5334120" y="5553000"/>
          <a:ext cx="2952720" cy="9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5553000"/>
                    <a:ext cx="29527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phical Analysis Using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lot the relationshi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(4.6) and (4.7) on single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nd interse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w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oad 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diode characteristic intersect at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perating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6" descr="se04F11"/>
          <p:cNvPicPr/>
          <p:nvPr/>
        </p:nvPicPr>
        <p:blipFill>
          <a:blip r:embed="rId1"/>
          <a:stretch/>
        </p:blipFill>
        <p:spPr>
          <a:xfrm>
            <a:off x="4572000" y="2057400"/>
            <a:ext cx="4302000" cy="25351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57200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al analysis of the circuit in Fig. 4.10 using the exponential diode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4876920" y="2438280"/>
            <a:ext cx="335268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6324480" y="2666880"/>
            <a:ext cx="5335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6400800" y="32767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4876920" y="2438280"/>
            <a:ext cx="335268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2"/>
          <p:cNvSpPr/>
          <p:nvPr/>
        </p:nvSpPr>
        <p:spPr>
          <a:xfrm flipV="1">
            <a:off x="6324480" y="2666880"/>
            <a:ext cx="5335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13"/>
          <p:cNvSpPr/>
          <p:nvPr/>
        </p:nvSpPr>
        <p:spPr>
          <a:xfrm>
            <a:off x="6400800" y="32767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werful technique for the application and modeling of the diode (and in later chapters, transistors): dc-biasing the diode and modeling its operation for small signals around the dc-operating point by means of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mall-sign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a string of forward-biased diodes and of diodes operating in the breakdown region (zener diodes), to provide constant dc voltages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oltage regul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of the diode in the design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ctifier circu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convert ac voltages to dc as needed for powering electronic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other practical and importa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phical Analysis Using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Pr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/c of visual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Complex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line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se04F11"/>
          <p:cNvPicPr/>
          <p:nvPr/>
        </p:nvPicPr>
        <p:blipFill>
          <a:blip r:embed="rId1"/>
          <a:stretch/>
        </p:blipFill>
        <p:spPr>
          <a:xfrm>
            <a:off x="4572000" y="2057400"/>
            <a:ext cx="4302000" cy="2535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al analysis of the circuit in Fig. 4.10 using the exponential diode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ve Analysis Using Exponential Metho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rt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itial gu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dal / mesh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ol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exponential model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pdat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peat these ste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ti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n convergence, the new and old value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t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ve Analysis Using Exponential Metho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Pr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Pr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Intu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Practical for Complex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+ iter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deling the Diode Forward 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analyze these diode-based circui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efficien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example is assum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drop across the diod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9"/>
          <p:cNvSpPr/>
          <p:nvPr/>
        </p:nvSpPr>
        <p:spPr>
          <a:xfrm>
            <a:off x="6858000" y="2286000"/>
            <a:ext cx="1371600" cy="1523880"/>
          </a:xfrm>
          <a:custGeom>
            <a:avLst/>
            <a:gdLst/>
            <a:ahLst/>
            <a:rect l="l" t="t" r="r" b="b"/>
            <a:pathLst>
              <a:path w="864" h="960">
                <a:moveTo>
                  <a:pt x="0" y="960"/>
                </a:moveTo>
                <a:lnTo>
                  <a:pt x="864" y="960"/>
                </a:lnTo>
                <a:lnTo>
                  <a:pt x="86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10"/>
          <p:cNvSpPr/>
          <p:nvPr/>
        </p:nvSpPr>
        <p:spPr>
          <a:xfrm flipV="1">
            <a:off x="4114800" y="3962160"/>
            <a:ext cx="35053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tant Voltage-Drop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stant voltage-drop diode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umes that the slop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tica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@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example 4.4 solution change if CVDM is us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262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4.3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se04F12"/>
          <p:cNvPicPr/>
          <p:nvPr/>
        </p:nvPicPr>
        <p:blipFill>
          <a:blip r:embed="rId1"/>
          <a:stretch/>
        </p:blipFill>
        <p:spPr>
          <a:xfrm>
            <a:off x="4572000" y="1905120"/>
            <a:ext cx="4362480" cy="3328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4572000" y="5257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the diode constant-voltage-drop model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de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ode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diode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umes that the slop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tica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@ 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example 4.4 solution change if ideal model is us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262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4" descr="se04F01"/>
          <p:cNvPicPr/>
          <p:nvPr/>
        </p:nvPicPr>
        <p:blipFill>
          <a:blip r:embed="rId1"/>
          <a:stretch/>
        </p:blipFill>
        <p:spPr>
          <a:xfrm>
            <a:off x="4648320" y="2327400"/>
            <a:ext cx="4190760" cy="31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.1: Current-Vol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r>
              <a:rPr b="0" lang="en-US" sz="2400" spc="-1" strike="noStrike">
                <a:solidFill>
                  <a:srgbClr val="777777"/>
                </a:solidFill>
                <a:latin typeface="Calibri"/>
              </a:rPr>
              <a:t>of the Ideal Dio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alibri"/>
              </a:rPr>
              <a:t>ideal diod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most fundament nonlinear circuit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terminal device with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ircuit symb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e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wo m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ward and reverse b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572000" y="5562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4.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14" descr="se04F01"/>
          <p:cNvPicPr/>
          <p:nvPr/>
        </p:nvPicPr>
        <p:blipFill>
          <a:blip r:embed="rId1"/>
          <a:stretch/>
        </p:blipFill>
        <p:spPr>
          <a:xfrm>
            <a:off x="1447920" y="1981080"/>
            <a:ext cx="6172200" cy="4654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457200" y="2209680"/>
            <a:ext cx="2362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vice symbol with two n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6019920" y="1022400"/>
            <a:ext cx="2361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1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forward bias = short c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124080" y="1022400"/>
            <a:ext cx="2362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2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reverse bias = open c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se models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onenti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ow vol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ess complex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emphasis on accuracy over practic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tant voltage-drop m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edium voltages = 0.7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more complex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emphasis on practicality over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al diod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 voltages &gt;&gt; 0.7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very complex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cases where a difference in voltage by 0.7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is neg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mall-sign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is is nex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small-signal diod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de is modeled 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riable resi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se value is defined via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inear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xponential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ias 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fined by constant voltage drop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7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the small-signal diode model defi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tal instantaneous circuit is divided into steady-state and time varying components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may be analyzed separately and solved via algeb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teady-state, diode represented as CV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ime-varying, diode represented as resi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7543800" y="1066680"/>
            <a:ext cx="0" cy="358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572000" y="228600"/>
            <a:ext cx="4343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ither of these circuits employ the exponential model – simplifying the “solving”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1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ent-Volt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r>
              <a:rPr b="1" lang="en-US" sz="2800" spc="-1" strike="noStrike">
                <a:solidFill>
                  <a:srgbClr val="777777"/>
                </a:solidFill>
                <a:latin typeface="Calibri"/>
              </a:rPr>
              <a:t>of the Ideal Dio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di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ost fundament nonlinear circuit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terminal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ircuit symb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n to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es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m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nd o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4" descr="se04F01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274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572000" y="54705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od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4" descr="se04F14"/>
          <p:cNvPicPr/>
          <p:nvPr/>
        </p:nvPicPr>
        <p:blipFill>
          <a:blip r:embed="rId1"/>
          <a:stretch/>
        </p:blipFill>
        <p:spPr>
          <a:xfrm>
            <a:off x="1969920" y="380880"/>
            <a:ext cx="3364200" cy="5410440"/>
          </a:xfrm>
          <a:prstGeom prst="rect">
            <a:avLst/>
          </a:prstGeom>
          <a:ln w="0">
            <a:noFill/>
          </a:ln>
        </p:spPr>
      </p:pic>
      <p:sp>
        <p:nvSpPr>
          <p:cNvPr id="306" name="Line 28"/>
          <p:cNvSpPr/>
          <p:nvPr/>
        </p:nvSpPr>
        <p:spPr>
          <a:xfrm flipH="1">
            <a:off x="4723920" y="533520"/>
            <a:ext cx="35053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7467480" y="228600"/>
            <a:ext cx="1447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V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5960" y="2057400"/>
            <a:ext cx="8762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28600" y="5943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4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Example 4.5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calculating the dc operating point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-signal equivalent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7"/>
          <p:cNvSpPr/>
          <p:nvPr/>
        </p:nvSpPr>
        <p:spPr>
          <a:xfrm>
            <a:off x="1371600" y="685800"/>
            <a:ext cx="762120" cy="2057400"/>
          </a:xfrm>
          <a:custGeom>
            <a:avLst/>
            <a:gdLst/>
            <a:ahLst/>
            <a:rect l="l" t="t" r="r" b="b"/>
            <a:pathLst>
              <a:path w="288" h="1296">
                <a:moveTo>
                  <a:pt x="288" y="0"/>
                </a:moveTo>
                <a:lnTo>
                  <a:pt x="0" y="0"/>
                </a:lnTo>
                <a:lnTo>
                  <a:pt x="0" y="1296"/>
                </a:lnTo>
                <a:lnTo>
                  <a:pt x="288" y="1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1143000" y="99072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1143000" y="198108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1143000" y="10666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143000" y="205740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12"/>
          <p:cNvSpPr/>
          <p:nvPr/>
        </p:nvSpPr>
        <p:spPr>
          <a:xfrm>
            <a:off x="3809880" y="685800"/>
            <a:ext cx="762120" cy="2057400"/>
          </a:xfrm>
          <a:custGeom>
            <a:avLst/>
            <a:gdLst/>
            <a:ahLst/>
            <a:rect l="l" t="t" r="r" b="b"/>
            <a:pathLst>
              <a:path w="288" h="1296">
                <a:moveTo>
                  <a:pt x="288" y="0"/>
                </a:moveTo>
                <a:lnTo>
                  <a:pt x="0" y="0"/>
                </a:lnTo>
                <a:lnTo>
                  <a:pt x="0" y="1296"/>
                </a:lnTo>
                <a:lnTo>
                  <a:pt x="288" y="1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3581280" y="99072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581280" y="10666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2286000" y="3886200"/>
            <a:ext cx="7621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2743200" y="38862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514600" y="426708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514600" y="434340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304920" y="1065240"/>
            <a:ext cx="2361960" cy="143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tal Instantaneous Solutio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3352680" y="1066680"/>
            <a:ext cx="2362320" cy="143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eady-State Solution     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1828800" y="3886200"/>
            <a:ext cx="2362320" cy="143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-Varying Solution      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2819520" y="135576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5867280" y="135576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50416 -0.41111 E">
                                      <p:cBhvr>
                                        <p:cTn id="186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1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the small-signal diode model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ider the conceptual circuit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4.13(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C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pplied to di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rbitrary time-varying sign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uper-im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5943600" y="2685960"/>
            <a:ext cx="270504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C on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upper-case w/ upper-case sub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ime-varying on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lower-case w/ lower-case sub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tal instantaneou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lower-case w/ upper-case sub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+ time-va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5676840" y="2685960"/>
            <a:ext cx="270504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in (4.8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total instantaneous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composed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total instantaneou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5018040" y="2208240"/>
          <a:ext cx="359244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8040" y="2208240"/>
                    <a:ext cx="35924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Line 9"/>
          <p:cNvSpPr/>
          <p:nvPr/>
        </p:nvSpPr>
        <p:spPr>
          <a:xfrm>
            <a:off x="3429000" y="2438280"/>
            <a:ext cx="144792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3429000" y="2438280"/>
            <a:ext cx="144792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11"/>
          <p:cNvSpPr/>
          <p:nvPr/>
        </p:nvSpPr>
        <p:spPr>
          <a:xfrm flipV="1">
            <a:off x="3657600" y="3047760"/>
            <a:ext cx="1295280" cy="7596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12"/>
          <p:cNvSpPr/>
          <p:nvPr/>
        </p:nvSpPr>
        <p:spPr>
          <a:xfrm flipV="1">
            <a:off x="3657600" y="3047760"/>
            <a:ext cx="1295280" cy="759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419720" y="5029200"/>
            <a:ext cx="53316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419720" y="5029200"/>
            <a:ext cx="53316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efine (4.1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function of bo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6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is exponential in tw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efine total instant cur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erms of DC compon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time-varying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62320"/>
          <a:ext cx="419580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41958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Line 9"/>
          <p:cNvSpPr/>
          <p:nvPr/>
        </p:nvSpPr>
        <p:spPr>
          <a:xfrm>
            <a:off x="4191120" y="2286000"/>
            <a:ext cx="457200" cy="3808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4191120" y="2286000"/>
            <a:ext cx="457200" cy="3808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200400" y="3581280"/>
            <a:ext cx="1371600" cy="3049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3200400" y="3581280"/>
            <a:ext cx="1371600" cy="3049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4114800" y="4876920"/>
            <a:ext cx="45720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4114800" y="4876920"/>
            <a:ext cx="45720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8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wer series expa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(4.1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9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1, certain terms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l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4114800" y="2209680"/>
          <a:ext cx="47815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47815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Line 8"/>
          <p:cNvSpPr/>
          <p:nvPr/>
        </p:nvSpPr>
        <p:spPr>
          <a:xfrm flipV="1">
            <a:off x="3505320" y="2666880"/>
            <a:ext cx="533160" cy="15264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9"/>
          <p:cNvSpPr/>
          <p:nvPr/>
        </p:nvSpPr>
        <p:spPr>
          <a:xfrm flipV="1">
            <a:off x="3505320" y="2666880"/>
            <a:ext cx="533160" cy="15264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3200400" y="3733920"/>
            <a:ext cx="914400" cy="18288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3200400" y="3733920"/>
            <a:ext cx="914400" cy="18288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mall signal approx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wn to righ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exponential diod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instant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-signal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-signal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 for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plitude (not peak to pea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5867280" y="1371600"/>
          <a:ext cx="286092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371600"/>
                    <a:ext cx="286092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5867280" y="1371600"/>
            <a:ext cx="2895840" cy="16002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0"/>
          <p:cNvSpPr/>
          <p:nvPr/>
        </p:nvSpPr>
        <p:spPr>
          <a:xfrm flipV="1">
            <a:off x="4952880" y="3505320"/>
            <a:ext cx="83844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1"/>
          <p:cNvSpPr/>
          <p:nvPr/>
        </p:nvSpPr>
        <p:spPr>
          <a:xfrm flipV="1">
            <a:off x="4876920" y="4114440"/>
            <a:ext cx="9144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5334120" y="480060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thod may be used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ximate any fu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round an operating point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1998720" y="4038480"/>
          <a:ext cx="516420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4038480"/>
                    <a:ext cx="51642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mall-signal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steady-state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thermal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is approximation is only valid for small-signal voltag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5" name="Object 4"/>
          <p:cNvGraphicFramePr/>
          <p:nvPr/>
        </p:nvGraphicFramePr>
        <p:xfrm>
          <a:off x="3886200" y="4724280"/>
          <a:ext cx="125892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724280"/>
                    <a:ext cx="12589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5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circuit shown in Figure 4.14(a) for the case in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supp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has a dc valu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which is super-imposed a 6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H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nusoid o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ak amplitude (known as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upply rip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lculate both amplitude of the sine-wave signal observed across the di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eak) = 2.68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diode to have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op at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urrent-Volta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atho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terminal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urrent f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an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ositive terminal of diode,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urrent f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-current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behavior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iecewise line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te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line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yond this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4" descr="se04F14"/>
          <p:cNvPicPr/>
          <p:nvPr/>
        </p:nvPicPr>
        <p:blipFill>
          <a:blip r:embed="rId1"/>
          <a:stretch/>
        </p:blipFill>
        <p:spPr>
          <a:xfrm>
            <a:off x="2884320" y="380880"/>
            <a:ext cx="3364200" cy="54104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228600" y="5943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4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Example 4.5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calculating the dc operating point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-signal equivalent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Use of Diode Forward Drop in Voltage Regul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regul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hose voltage output remains stable in spite of changes in supply and lo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haracteristic of the diode facilitates voltage regul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roximate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stant voltage drop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ross it (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de-Based Voltage Regul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57913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circuit shown in Figure 4.15. 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ring of three dio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provide a constant voltage of 2.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change in this regulated voltage caus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/-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 in supply voltage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nection of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ad resi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4" descr="se04F15"/>
          <p:cNvPicPr/>
          <p:nvPr/>
        </p:nvPicPr>
        <p:blipFill>
          <a:blip r:embed="rId1"/>
          <a:stretch/>
        </p:blipFill>
        <p:spPr>
          <a:xfrm>
            <a:off x="6400800" y="2133720"/>
            <a:ext cx="2327400" cy="24382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"/>
          <p:cNvSpPr/>
          <p:nvPr/>
        </p:nvSpPr>
        <p:spPr>
          <a:xfrm>
            <a:off x="6172200" y="4876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Example 4.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64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the Reverse Breakdown Region – Zener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certain circumstances, diodes may be intentionally used in the reverse breakdown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referred to as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Zener Dio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ctifier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application of diode is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rec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device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verts alternating current (AC) to direct current (D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application of rectifier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power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4" descr="se04F20"/>
          <p:cNvPicPr/>
          <p:nvPr/>
        </p:nvPicPr>
        <p:blipFill>
          <a:blip r:embed="rId1"/>
          <a:stretch/>
        </p:blipFill>
        <p:spPr>
          <a:xfrm>
            <a:off x="4572000" y="3267000"/>
            <a:ext cx="4305240" cy="1228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4648320" y="4800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diagram of a dc power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52280" y="2819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" descr="se04F20"/>
          <p:cNvPicPr/>
          <p:nvPr/>
        </p:nvPicPr>
        <p:blipFill>
          <a:blip r:embed="rId1"/>
          <a:stretch/>
        </p:blipFill>
        <p:spPr>
          <a:xfrm>
            <a:off x="152280" y="3962520"/>
            <a:ext cx="8763120" cy="2500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228600" y="63086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diagram of a dc power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80880" y="21276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1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increase / decrease rms magnitude of AC wave via power transfor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143000" y="97488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2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convert full-wave AC to half-wave DC (still time-varying and period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905120" y="173664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3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mploy low-pass filter to reduce wave amplitude by &gt; 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743200" y="251460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4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mploy voltage regulator to eliminate rip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505320" y="327672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5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upply dc load                                 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609480" y="990720"/>
            <a:ext cx="0" cy="32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8229600" y="40384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6477120" y="3276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15"/>
          <p:cNvSpPr/>
          <p:nvPr/>
        </p:nvSpPr>
        <p:spPr>
          <a:xfrm>
            <a:off x="4724280" y="251460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16"/>
          <p:cNvSpPr/>
          <p:nvPr/>
        </p:nvSpPr>
        <p:spPr>
          <a:xfrm>
            <a:off x="297180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8640" y="151920"/>
            <a:ext cx="3497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Half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half-wave rec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 utilizes only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alf-cyc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 sinus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voltage drop diode model is empl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4" descr="se04F21"/>
          <p:cNvPicPr/>
          <p:nvPr/>
        </p:nvPicPr>
        <p:blipFill>
          <a:blip r:embed="rId1"/>
          <a:stretch/>
        </p:blipFill>
        <p:spPr>
          <a:xfrm>
            <a:off x="4572000" y="1565280"/>
            <a:ext cx="4419720" cy="40734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1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-wave rectifi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characteristic of the rectifier circu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nd output wave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Half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urrent-handling cap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what is maximum forward current diode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pected to condu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peak inverse voltage (PIV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what is maximum reverse voltage i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pec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lock w/o breakdow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8640" y="151920"/>
            <a:ext cx="3497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Half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exponential model?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possible to use the diode exponential model in describing rectifier operation; however, this requires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too much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small inputs?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ardless of the model employed, one should note that the rectifi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ill not operate proper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input voltage is small (&lt; 1</a:t>
            </a:r>
            <a:r>
              <a:rPr b="0" i="1" lang="en-US" sz="32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cases require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recision rect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ll-wave rectif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ffer from half-w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tilizes both halves of th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otential is shown to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se04F22"/>
          <p:cNvPicPr/>
          <p:nvPr/>
        </p:nvPicPr>
        <p:blipFill>
          <a:blip r:embed="rId1"/>
          <a:stretch/>
        </p:blipFill>
        <p:spPr>
          <a:xfrm>
            <a:off x="4572000" y="2092320"/>
            <a:ext cx="4419720" cy="2860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4648320" y="51055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-wave rectifier utilizing a transformer with a center-tapped secondary win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.1: Current-Vol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r>
              <a:rPr b="0" lang="en-US" sz="2400" spc="-1" strike="noStrike">
                <a:solidFill>
                  <a:srgbClr val="777777"/>
                </a:solidFill>
                <a:latin typeface="Calibri"/>
              </a:rPr>
              <a:t>of the Ideal Dio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alibri"/>
              </a:rPr>
              <a:t>ideal diod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most fundament nonlinear circuit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terminal device with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ircuit symb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e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wo m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ward and reverse b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5562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4.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4" descr="se04F01"/>
          <p:cNvPicPr/>
          <p:nvPr/>
        </p:nvPicPr>
        <p:blipFill>
          <a:blip r:embed="rId1"/>
          <a:stretch/>
        </p:blipFill>
        <p:spPr>
          <a:xfrm>
            <a:off x="1447920" y="1981080"/>
            <a:ext cx="6172200" cy="465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457200" y="2209680"/>
            <a:ext cx="2362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vice symbol with two n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9920" y="1022400"/>
            <a:ext cx="2361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1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forward bias = short c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124080" y="1022400"/>
            <a:ext cx="2362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2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reverse bias = open c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4" descr="se04F22"/>
          <p:cNvPicPr/>
          <p:nvPr/>
        </p:nvPicPr>
        <p:blipFill>
          <a:blip r:embed="rId1"/>
          <a:stretch/>
        </p:blipFill>
        <p:spPr>
          <a:xfrm>
            <a:off x="1752480" y="1406520"/>
            <a:ext cx="5715000" cy="3699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2"/>
          <p:cNvSpPr/>
          <p:nvPr/>
        </p:nvSpPr>
        <p:spPr>
          <a:xfrm>
            <a:off x="228600" y="5181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-wave rectifier utilizing a transformer with a center-tapped secondary winding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characterist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ing a constant-voltage-drop model for the diodes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nd output wave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28600" y="152280"/>
            <a:ext cx="8686800" cy="10076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he key here is center-tapping of the transformer, allowing “reversal” of certain current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1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5" descr=""/>
          <p:cNvPicPr/>
          <p:nvPr/>
        </p:nvPicPr>
        <p:blipFill>
          <a:blip r:embed="rId1"/>
          <a:stretch/>
        </p:blipFill>
        <p:spPr>
          <a:xfrm>
            <a:off x="228600" y="1430280"/>
            <a:ext cx="8686800" cy="4970520"/>
          </a:xfrm>
          <a:prstGeom prst="rect">
            <a:avLst/>
          </a:prstGeom>
          <a:ln w="0">
            <a:noFill/>
          </a:ln>
        </p:spPr>
      </p:pic>
      <p:sp>
        <p:nvSpPr>
          <p:cNvPr id="458" name="Line 6"/>
          <p:cNvSpPr/>
          <p:nvPr/>
        </p:nvSpPr>
        <p:spPr>
          <a:xfrm>
            <a:off x="762120" y="2116080"/>
            <a:ext cx="0" cy="3505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val 7"/>
          <p:cNvSpPr/>
          <p:nvPr/>
        </p:nvSpPr>
        <p:spPr>
          <a:xfrm>
            <a:off x="228600" y="341136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8"/>
          <p:cNvGrpSpPr/>
          <p:nvPr/>
        </p:nvGrpSpPr>
        <p:grpSpPr>
          <a:xfrm>
            <a:off x="609480" y="3564000"/>
            <a:ext cx="274680" cy="274680"/>
            <a:chOff x="609480" y="3564000"/>
            <a:chExt cx="274680" cy="274680"/>
          </a:xfrm>
        </p:grpSpPr>
        <p:sp>
          <p:nvSpPr>
            <p:cNvPr id="461" name="Line 9"/>
            <p:cNvSpPr/>
            <p:nvPr/>
          </p:nvSpPr>
          <p:spPr>
            <a:xfrm>
              <a:off x="746640" y="356400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609480" y="370116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Line 11"/>
          <p:cNvSpPr/>
          <p:nvPr/>
        </p:nvSpPr>
        <p:spPr>
          <a:xfrm>
            <a:off x="609480" y="418932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685800" y="32590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si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s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block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7620120" y="228600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4572000" y="525780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14451E-006 L -0.00365 -0.18404 L 0.7 -0.18635 L 0.7 0.06775 L 0.2783 0.06775 L 0.27639 0.3244 L -0.00365 0.3244 L 3.33333E-006 5.14451E-006 Z">
                                      <p:cBhvr>
                                        <p:cTn id="295" dur="5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1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228600" y="1430280"/>
            <a:ext cx="8686800" cy="4970520"/>
          </a:xfrm>
          <a:prstGeom prst="rect">
            <a:avLst/>
          </a:prstGeom>
          <a:ln w="0">
            <a:noFill/>
          </a:ln>
        </p:spPr>
      </p:pic>
      <p:sp>
        <p:nvSpPr>
          <p:cNvPr id="471" name="Line 6"/>
          <p:cNvSpPr/>
          <p:nvPr/>
        </p:nvSpPr>
        <p:spPr>
          <a:xfrm>
            <a:off x="762120" y="2116080"/>
            <a:ext cx="0" cy="3505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228600" y="341136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8"/>
          <p:cNvGrpSpPr/>
          <p:nvPr/>
        </p:nvGrpSpPr>
        <p:grpSpPr>
          <a:xfrm>
            <a:off x="609480" y="4068720"/>
            <a:ext cx="274680" cy="274680"/>
            <a:chOff x="609480" y="4068720"/>
            <a:chExt cx="274680" cy="274680"/>
          </a:xfrm>
        </p:grpSpPr>
        <p:sp>
          <p:nvSpPr>
            <p:cNvPr id="474" name="Line 9"/>
            <p:cNvSpPr/>
            <p:nvPr/>
          </p:nvSpPr>
          <p:spPr>
            <a:xfrm>
              <a:off x="746640" y="406872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609480" y="420588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Line 11"/>
          <p:cNvSpPr/>
          <p:nvPr/>
        </p:nvSpPr>
        <p:spPr>
          <a:xfrm>
            <a:off x="609480" y="365760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685800" y="32590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ega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s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bl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4"/>
          <p:cNvSpPr/>
          <p:nvPr/>
        </p:nvSpPr>
        <p:spPr>
          <a:xfrm>
            <a:off x="7620120" y="228600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572000" y="1828800"/>
            <a:ext cx="609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2948E-006 L -0.00174 0.31953 L 0.60538 0.32439 L 0.60173 -0.18891 L 0.70191 -0.19376 L 0.7 0.06543 L 0.28177 0.06543 L 0.28177 -0.19122 L 3.33333E-006 -0.18891 L 3.33333E-006 3.2948E-006 Z">
                                      <p:cBhvr>
                                        <p:cTn id="301" dur="5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ull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mo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mportant observation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is ope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rection of current flowing across load never changes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th halves of AC w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rectified).  The full-wave rectifier produces a mor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“energetic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veform than half-w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I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full-wave = 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ridg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 implementation of the full-wave rectifier is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bridge rectif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to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1"/>
          <a:stretch/>
        </p:blipFill>
        <p:spPr>
          <a:xfrm>
            <a:off x="4572000" y="2825640"/>
            <a:ext cx="4371840" cy="21272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4572000" y="5334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rectifi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8559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"/>
          <p:cNvSpPr/>
          <p:nvPr/>
        </p:nvSpPr>
        <p:spPr>
          <a:xfrm>
            <a:off x="228600" y="6004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rectifier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Line 7"/>
          <p:cNvSpPr/>
          <p:nvPr/>
        </p:nvSpPr>
        <p:spPr>
          <a:xfrm>
            <a:off x="1066680" y="2286000"/>
            <a:ext cx="0" cy="3124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8"/>
          <p:cNvSpPr/>
          <p:nvPr/>
        </p:nvSpPr>
        <p:spPr>
          <a:xfrm>
            <a:off x="533520" y="335268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914400" y="3505320"/>
            <a:ext cx="274680" cy="274680"/>
            <a:chOff x="914400" y="3505320"/>
            <a:chExt cx="274680" cy="274680"/>
          </a:xfrm>
        </p:grpSpPr>
        <p:sp>
          <p:nvSpPr>
            <p:cNvPr id="499" name="Line 10"/>
            <p:cNvSpPr/>
            <p:nvPr/>
          </p:nvSpPr>
          <p:spPr>
            <a:xfrm>
              <a:off x="1051560" y="350532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11"/>
            <p:cNvSpPr/>
            <p:nvPr/>
          </p:nvSpPr>
          <p:spPr>
            <a:xfrm>
              <a:off x="914400" y="364248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Line 12"/>
          <p:cNvSpPr/>
          <p:nvPr/>
        </p:nvSpPr>
        <p:spPr>
          <a:xfrm>
            <a:off x="914400" y="413064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990720" y="3200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6095880" y="41911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si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and 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l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5867280" y="2819520"/>
            <a:ext cx="609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6296E-006 L -0.00347 -0.14259 L 0.62414 -0.14722 L 0.76216 0.08264 L 0.48282 0.08032 L 0.6224 0.30787 L -0.00173 0.30787 L -2.77778E-007 2.96296E-006 Z">
                                      <p:cBhvr>
                                        <p:cTn id="307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85596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228600" y="6004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rectifier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7"/>
          <p:cNvSpPr/>
          <p:nvPr/>
        </p:nvSpPr>
        <p:spPr>
          <a:xfrm>
            <a:off x="1066680" y="2286000"/>
            <a:ext cx="0" cy="3124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8"/>
          <p:cNvSpPr/>
          <p:nvPr/>
        </p:nvSpPr>
        <p:spPr>
          <a:xfrm>
            <a:off x="533520" y="335268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9"/>
          <p:cNvGrpSpPr/>
          <p:nvPr/>
        </p:nvGrpSpPr>
        <p:grpSpPr>
          <a:xfrm>
            <a:off x="914400" y="3992400"/>
            <a:ext cx="274680" cy="274680"/>
            <a:chOff x="914400" y="3992400"/>
            <a:chExt cx="274680" cy="274680"/>
          </a:xfrm>
        </p:grpSpPr>
        <p:sp>
          <p:nvSpPr>
            <p:cNvPr id="516" name="Line 10"/>
            <p:cNvSpPr/>
            <p:nvPr/>
          </p:nvSpPr>
          <p:spPr>
            <a:xfrm>
              <a:off x="1051560" y="399240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11"/>
            <p:cNvSpPr/>
            <p:nvPr/>
          </p:nvSpPr>
          <p:spPr>
            <a:xfrm>
              <a:off x="914400" y="412956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Line 12"/>
          <p:cNvSpPr/>
          <p:nvPr/>
        </p:nvSpPr>
        <p:spPr>
          <a:xfrm>
            <a:off x="914400" y="365760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990720" y="3200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6095880" y="41911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si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and 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l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16"/>
          <p:cNvSpPr/>
          <p:nvPr/>
        </p:nvSpPr>
        <p:spPr>
          <a:xfrm>
            <a:off x="3657600" y="2438280"/>
            <a:ext cx="5335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7"/>
          <p:cNvSpPr/>
          <p:nvPr/>
        </p:nvSpPr>
        <p:spPr>
          <a:xfrm>
            <a:off x="5867280" y="4343400"/>
            <a:ext cx="609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18"/>
          <p:cNvSpPr/>
          <p:nvPr/>
        </p:nvSpPr>
        <p:spPr>
          <a:xfrm>
            <a:off x="7086600" y="2819520"/>
            <a:ext cx="609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19"/>
          <p:cNvSpPr/>
          <p:nvPr/>
        </p:nvSpPr>
        <p:spPr>
          <a:xfrm>
            <a:off x="5943600" y="34290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20"/>
          <p:cNvSpPr/>
          <p:nvPr/>
        </p:nvSpPr>
        <p:spPr>
          <a:xfrm>
            <a:off x="6553080" y="33526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46 L -0.00364 0.30741 L 0.62223 0.30973 L 0.76025 0.08218 L 0.47917 0.08449 L 0.62049 -0.14537 L -0.00017 -0.14305 L -0.00017 -0.00046 Z">
                                      <p:cBhvr>
                                        <p:cTn id="313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3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ridge Rectifier (BR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dvant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f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enter-tapp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for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m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advant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es connection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WO dio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reduce output vol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V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ating nature of rectifier output mak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reliable dc supp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such, a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filter capaci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employed to remove rip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304920" y="5486400"/>
            <a:ext cx="8534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4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circuit used to illustrate the effect of a filter capacito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nd output waveforms assuming an ideal di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07040" cy="39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oltage is positive, diode is forward biased,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pacitor char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oltage is reverse, diode is reverse-biased (blocking)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pacitor cannot discha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oltage is positive, diode is forward biase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pacitor charges (maintains voltag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304920" y="6134040"/>
            <a:ext cx="85341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4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circuit used to illustrate the effec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7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07040" cy="39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urrent-Volta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rnal circuit should be designed to limi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f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ross conducting di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acro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ing di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are shown to righ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se04F02"/>
          <p:cNvPicPr/>
          <p:nvPr/>
        </p:nvPicPr>
        <p:blipFill>
          <a:blip r:embed="rId1"/>
          <a:stretch/>
        </p:blipFill>
        <p:spPr>
          <a:xfrm>
            <a:off x="5040360" y="10666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4572000" y="4648320"/>
            <a:ext cx="43434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wo modes of operation of ideal diodes and the use of an external circuit to lim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rward current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verse vol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this examp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realis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for an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actical ap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converter would supply a load (which in turn provides a path for capacitor discharg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placed in series with capaci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must now consider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charging of capacitor across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xtbook outlines how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aplace Trans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used to define behavior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4759200" y="3505320"/>
            <a:ext cx="4003920" cy="25034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5562720" y="594360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572000" y="3581280"/>
            <a:ext cx="2057400" cy="23623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8" descr=""/>
          <p:cNvPicPr/>
          <p:nvPr/>
        </p:nvPicPr>
        <p:blipFill>
          <a:blip r:embed="rId2"/>
          <a:stretch/>
        </p:blipFill>
        <p:spPr>
          <a:xfrm>
            <a:off x="4768920" y="399960"/>
            <a:ext cx="3994200" cy="24955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9"/>
          <p:cNvSpPr/>
          <p:nvPr/>
        </p:nvSpPr>
        <p:spPr>
          <a:xfrm>
            <a:off x="5562720" y="289548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12"/>
          <p:cNvSpPr/>
          <p:nvPr/>
        </p:nvSpPr>
        <p:spPr>
          <a:xfrm>
            <a:off x="0" y="6095880"/>
            <a:ext cx="4572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4"/>
          <p:cNvGraphicFramePr/>
          <p:nvPr/>
        </p:nvGraphicFramePr>
        <p:xfrm>
          <a:off x="1022400" y="4114800"/>
          <a:ext cx="255888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2400" y="4114800"/>
                    <a:ext cx="25588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Line 10"/>
          <p:cNvSpPr/>
          <p:nvPr/>
        </p:nvSpPr>
        <p:spPr>
          <a:xfrm flipV="1">
            <a:off x="3581280" y="2285640"/>
            <a:ext cx="14479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3505320" y="5029200"/>
            <a:ext cx="2971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6629400" y="3886200"/>
            <a:ext cx="380880" cy="380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6629400" y="5638680"/>
            <a:ext cx="38088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alyze 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ate #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Calibri"/>
              </a:rPr>
              <a:t>When diode is forward biased and conduc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will be appli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minus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op across di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7" name="Object 4"/>
          <p:cNvGraphicFramePr/>
          <p:nvPr/>
        </p:nvGraphicFramePr>
        <p:xfrm>
          <a:off x="5979960" y="3505320"/>
          <a:ext cx="1792440" cy="30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79960" y="3505320"/>
                    <a:ext cx="1792440" cy="30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648320" y="136440"/>
            <a:ext cx="4267080" cy="26672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5181480" y="280368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output voltage for state #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Object 4"/>
          <p:cNvGraphicFramePr/>
          <p:nvPr/>
        </p:nvGraphicFramePr>
        <p:xfrm>
          <a:off x="914400" y="3819600"/>
          <a:ext cx="26877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19600"/>
                    <a:ext cx="2687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Picture 5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26668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6"/>
          <p:cNvSpPr/>
          <p:nvPr/>
        </p:nvSpPr>
        <p:spPr>
          <a:xfrm>
            <a:off x="4648320" y="47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alyze 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ate #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Calibri"/>
              </a:rPr>
              <a:t>When diode is blocking and capacitor is dischar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VL and KC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is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–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67080" cy="26668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6"/>
          <p:cNvSpPr/>
          <p:nvPr/>
        </p:nvSpPr>
        <p:spPr>
          <a:xfrm>
            <a:off x="5181480" y="472428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it state #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572000" y="1905120"/>
            <a:ext cx="2057400" cy="2666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6629400" y="2438280"/>
            <a:ext cx="45720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6629400" y="4114800"/>
            <a:ext cx="457200" cy="380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#6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 combination of circuit a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place Analy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olve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n terms of initial condition and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ct 3"/>
          <p:cNvGraphicFramePr/>
          <p:nvPr/>
        </p:nvGraphicFramePr>
        <p:xfrm>
          <a:off x="363600" y="2057400"/>
          <a:ext cx="84186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2057400"/>
                    <a:ext cx="84186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Freeform 4"/>
          <p:cNvSpPr/>
          <p:nvPr/>
        </p:nvSpPr>
        <p:spPr>
          <a:xfrm>
            <a:off x="762120" y="2286000"/>
            <a:ext cx="7315200" cy="4191120"/>
          </a:xfrm>
          <a:custGeom>
            <a:avLst/>
            <a:gdLst/>
            <a:ahLst/>
            <a:rect l="l" t="t" r="r" b="b"/>
            <a:pathLst>
              <a:path w="4608" h="2640">
                <a:moveTo>
                  <a:pt x="0" y="96"/>
                </a:moveTo>
                <a:lnTo>
                  <a:pt x="0" y="2640"/>
                </a:lnTo>
                <a:lnTo>
                  <a:pt x="2304" y="96"/>
                </a:lnTo>
                <a:lnTo>
                  <a:pt x="2304" y="2640"/>
                </a:lnTo>
                <a:lnTo>
                  <a:pt x="4608" y="0"/>
                </a:lnTo>
                <a:lnTo>
                  <a:pt x="4608" y="259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0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eak of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ecause the transition between state #1 and state #2 (aka. diode begins blocking) approximately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rops belo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output voltage for states #1 and #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4759200" y="3505320"/>
            <a:ext cx="4003920" cy="2503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5562720" y="594360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72000" y="3581280"/>
            <a:ext cx="2057400" cy="23623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7" descr=""/>
          <p:cNvPicPr/>
          <p:nvPr/>
        </p:nvPicPr>
        <p:blipFill>
          <a:blip r:embed="rId2"/>
          <a:stretch/>
        </p:blipFill>
        <p:spPr>
          <a:xfrm>
            <a:off x="4768920" y="399960"/>
            <a:ext cx="3994200" cy="24955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8"/>
          <p:cNvSpPr/>
          <p:nvPr/>
        </p:nvSpPr>
        <p:spPr>
          <a:xfrm>
            <a:off x="5562720" y="289548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0" y="6095880"/>
            <a:ext cx="4572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Object 10"/>
          <p:cNvGraphicFramePr/>
          <p:nvPr/>
        </p:nvGraphicFramePr>
        <p:xfrm>
          <a:off x="1022400" y="4114800"/>
          <a:ext cx="255888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2400" y="4114800"/>
                    <a:ext cx="25588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Line 11"/>
          <p:cNvSpPr/>
          <p:nvPr/>
        </p:nvSpPr>
        <p:spPr>
          <a:xfrm flipV="1">
            <a:off x="3581280" y="2285640"/>
            <a:ext cx="14479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12"/>
          <p:cNvSpPr/>
          <p:nvPr/>
        </p:nvSpPr>
        <p:spPr>
          <a:xfrm flipV="1">
            <a:off x="3505320" y="5029200"/>
            <a:ext cx="2971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6629400" y="3886200"/>
            <a:ext cx="380880" cy="380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6629400" y="5638680"/>
            <a:ext cx="38088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2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Simple Applic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Th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ndamental appl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is piecewise linear behavior is the rect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rec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verts AC waves in to 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ideally with no l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2121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648320" y="4724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(a)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tifier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4" descr="se04F25"/>
          <p:cNvPicPr/>
          <p:nvPr/>
        </p:nvPicPr>
        <p:blipFill>
          <a:blip r:embed="rId1"/>
          <a:stretch/>
        </p:blipFill>
        <p:spPr>
          <a:xfrm>
            <a:off x="228600" y="304920"/>
            <a:ext cx="8697960" cy="52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6"/>
          <p:cNvGraphicFramePr/>
          <p:nvPr/>
        </p:nvGraphicFramePr>
        <p:xfrm>
          <a:off x="187200" y="152280"/>
          <a:ext cx="2632320" cy="24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200" y="152280"/>
                    <a:ext cx="26323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7"/>
          <p:cNvSpPr/>
          <p:nvPr/>
        </p:nvSpPr>
        <p:spPr>
          <a:xfrm>
            <a:off x="3809880" y="304920"/>
            <a:ext cx="228600" cy="5105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6095880" y="304920"/>
            <a:ext cx="228600" cy="5105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4038480" y="304920"/>
            <a:ext cx="2057400" cy="51051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324480" y="304920"/>
            <a:ext cx="2057400" cy="51051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228600" y="3657600"/>
            <a:ext cx="1219320" cy="17524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12"/>
          <p:cNvSpPr/>
          <p:nvPr/>
        </p:nvSpPr>
        <p:spPr>
          <a:xfrm>
            <a:off x="2666880" y="914400"/>
            <a:ext cx="114300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2895480" y="190512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and Current Waveforms in the Peak Rectifier Circuit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diode is assumed ide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ouple of Observ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 conducts for a brief interval 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near the peak of the input sinus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pplies the capacitor with charge equal to that lost during the much longer discharge interval.  The latter is approximately equal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an ideal diode, the di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duction begins at tim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t which the inp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quals the exponentially decaying outp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Di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duction stops at tim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ly after the peak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the exact valu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determined by settling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ouple of Observ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diode off-interval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discharges throug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ausing an exponential dec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output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At the end of the discharge interval, which lasts for almost the entire perio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voltage output is defined as follows –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pea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ripple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small, the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lmost constant and equal to the peak of the in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verage output voltage may be defined as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4" name="Object 4"/>
          <p:cNvGraphicFramePr/>
          <p:nvPr/>
        </p:nvGraphicFramePr>
        <p:xfrm>
          <a:off x="1063800" y="5737320"/>
          <a:ext cx="6937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737320"/>
                    <a:ext cx="6937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ripple volt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def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gin wi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ansient respon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output during “off interval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o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ischarge inter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mplify using assumption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lve for ripple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9" name="Object 5"/>
          <p:cNvGraphicFramePr/>
          <p:nvPr/>
        </p:nvGraphicFramePr>
        <p:xfrm>
          <a:off x="5486400" y="1108080"/>
          <a:ext cx="344664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08080"/>
                    <a:ext cx="34466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Line 7"/>
          <p:cNvSpPr/>
          <p:nvPr/>
        </p:nvSpPr>
        <p:spPr>
          <a:xfrm flipV="1">
            <a:off x="4724280" y="1752480"/>
            <a:ext cx="762120" cy="9144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Line 8"/>
          <p:cNvSpPr/>
          <p:nvPr/>
        </p:nvSpPr>
        <p:spPr>
          <a:xfrm flipV="1">
            <a:off x="4724280" y="1752480"/>
            <a:ext cx="762120" cy="9144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9"/>
          <p:cNvSpPr/>
          <p:nvPr/>
        </p:nvSpPr>
        <p:spPr>
          <a:xfrm flipV="1">
            <a:off x="4495680" y="2666520"/>
            <a:ext cx="2743200" cy="12193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10"/>
          <p:cNvSpPr/>
          <p:nvPr/>
        </p:nvSpPr>
        <p:spPr>
          <a:xfrm flipV="1">
            <a:off x="4495680" y="2666520"/>
            <a:ext cx="2743200" cy="12193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11"/>
          <p:cNvSpPr/>
          <p:nvPr/>
        </p:nvSpPr>
        <p:spPr>
          <a:xfrm flipV="1">
            <a:off x="3809880" y="3352680"/>
            <a:ext cx="1676520" cy="13716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Line 12"/>
          <p:cNvSpPr/>
          <p:nvPr/>
        </p:nvSpPr>
        <p:spPr>
          <a:xfrm flipV="1">
            <a:off x="3809880" y="3352680"/>
            <a:ext cx="1676520" cy="13716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5029200" y="5486400"/>
            <a:ext cx="380880" cy="1522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5029200" y="5486400"/>
            <a:ext cx="380880" cy="1522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800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expression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s of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, as long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apacitor discharges as constant current sour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duction inter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e following slid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4"/>
          <p:cNvGraphicFramePr/>
          <p:nvPr/>
        </p:nvGraphicFramePr>
        <p:xfrm>
          <a:off x="5100480" y="2743200"/>
          <a:ext cx="36655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0480" y="2743200"/>
                    <a:ext cx="36655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Line 6"/>
          <p:cNvSpPr/>
          <p:nvPr/>
        </p:nvSpPr>
        <p:spPr>
          <a:xfrm flipV="1">
            <a:off x="6629400" y="42667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5029200" y="5638680"/>
            <a:ext cx="3809880" cy="107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xpression to define ripple voltage (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0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duction inter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fined?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um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 conduction sto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very close to when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roaches its p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is assumption, one may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ression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lve for 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4921200" y="685800"/>
            <a:ext cx="3765600" cy="22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0" name="Object 5"/>
          <p:cNvGraphicFramePr/>
          <p:nvPr/>
        </p:nvGraphicFramePr>
        <p:xfrm>
          <a:off x="4572000" y="3276720"/>
          <a:ext cx="4487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276720"/>
                    <a:ext cx="4487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7"/>
          <p:cNvSpPr/>
          <p:nvPr/>
        </p:nvSpPr>
        <p:spPr>
          <a:xfrm flipH="1">
            <a:off x="8153280" y="380880"/>
            <a:ext cx="15264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7620120" y="15228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9"/>
          <p:cNvSpPr/>
          <p:nvPr/>
        </p:nvSpPr>
        <p:spPr>
          <a:xfrm flipV="1">
            <a:off x="3809880" y="1980720"/>
            <a:ext cx="1143000" cy="3049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10"/>
          <p:cNvSpPr/>
          <p:nvPr/>
        </p:nvSpPr>
        <p:spPr>
          <a:xfrm flipV="1">
            <a:off x="3809880" y="1980720"/>
            <a:ext cx="1143000" cy="3049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1"/>
          <p:cNvSpPr/>
          <p:nvPr/>
        </p:nvSpPr>
        <p:spPr>
          <a:xfrm flipV="1">
            <a:off x="3276720" y="3657600"/>
            <a:ext cx="1600200" cy="4572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2"/>
          <p:cNvSpPr/>
          <p:nvPr/>
        </p:nvSpPr>
        <p:spPr>
          <a:xfrm flipV="1">
            <a:off x="3276720" y="3657600"/>
            <a:ext cx="1600200" cy="4572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962520" y="5562720"/>
            <a:ext cx="2057400" cy="3808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Line 14"/>
          <p:cNvSpPr/>
          <p:nvPr/>
        </p:nvSpPr>
        <p:spPr>
          <a:xfrm flipV="1">
            <a:off x="3962520" y="5562720"/>
            <a:ext cx="2057400" cy="3808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7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eak-to-peak rippl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4.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w is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duction interval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.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4878360" y="1828800"/>
          <a:ext cx="365616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8360" y="1828800"/>
                    <a:ext cx="36561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902120" y="4495680"/>
          <a:ext cx="401328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2120" y="4495680"/>
                    <a:ext cx="40132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14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precision rectif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is a device which facilitates rectification of low-voltage input wavef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4" descr="se04F27"/>
          <p:cNvPicPr/>
          <p:nvPr/>
        </p:nvPicPr>
        <p:blipFill>
          <a:blip r:embed="rId1"/>
          <a:stretch/>
        </p:blipFill>
        <p:spPr>
          <a:xfrm>
            <a:off x="1523880" y="3429000"/>
            <a:ext cx="6096240" cy="267984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"/>
          <p:cNvSpPr/>
          <p:nvPr/>
        </p:nvSpPr>
        <p:spPr>
          <a:xfrm>
            <a:off x="304920" y="5867280"/>
            <a:ext cx="85341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Superdiode” Precision Half-Wave Rectifier and its almost-ideal transfer characteris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imiting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mping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limiter circu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which limits voltage outp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4" descr="se04F28"/>
          <p:cNvPicPr/>
          <p:nvPr/>
        </p:nvPicPr>
        <p:blipFill>
          <a:blip r:embed="rId1"/>
          <a:stretch/>
        </p:blipFill>
        <p:spPr>
          <a:xfrm>
            <a:off x="5181480" y="1981080"/>
            <a:ext cx="3432240" cy="32562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"/>
          <p:cNvSpPr/>
          <p:nvPr/>
        </p:nvSpPr>
        <p:spPr>
          <a:xfrm>
            <a:off x="4648320" y="53942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8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transfer characteristic for a limiter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Line 6"/>
          <p:cNvSpPr/>
          <p:nvPr/>
        </p:nvSpPr>
        <p:spPr>
          <a:xfrm flipH="1">
            <a:off x="5181120" y="2494080"/>
            <a:ext cx="3429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7"/>
          <p:cNvSpPr/>
          <p:nvPr/>
        </p:nvSpPr>
        <p:spPr>
          <a:xfrm flipH="1">
            <a:off x="5181120" y="4932360"/>
            <a:ext cx="3429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imiting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mping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assive limiter circ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li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cl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limiter operate in uni-polar m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uble lim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e in bi-polar m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4"/>
          <p:cNvGraphicFramePr/>
          <p:nvPr/>
        </p:nvGraphicFramePr>
        <p:xfrm>
          <a:off x="5410080" y="933480"/>
          <a:ext cx="343692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933480"/>
                    <a:ext cx="343692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2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Simple Application 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ircuit is composed of diode and series resi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this 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 blocks reverse current f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eventing negative voltage acros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2121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4648320" y="4724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(a)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tifier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imiting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mping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so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s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hard lim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limiter circuits appli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processing, used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vent breakdown of transist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in various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4" descr="se04F30"/>
          <p:cNvPicPr/>
          <p:nvPr/>
        </p:nvPicPr>
        <p:blipFill>
          <a:blip r:embed="rId1"/>
          <a:stretch/>
        </p:blipFill>
        <p:spPr>
          <a:xfrm>
            <a:off x="304920" y="3139920"/>
            <a:ext cx="4114800" cy="23274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6"/>
          <p:cNvSpPr/>
          <p:nvPr/>
        </p:nvSpPr>
        <p:spPr>
          <a:xfrm>
            <a:off x="2209680" y="3124080"/>
            <a:ext cx="213372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76320" y="4435560"/>
            <a:ext cx="20574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8"/>
          <p:cNvSpPr/>
          <p:nvPr/>
        </p:nvSpPr>
        <p:spPr>
          <a:xfrm>
            <a:off x="304920" y="3444840"/>
            <a:ext cx="3886200" cy="1828800"/>
          </a:xfrm>
          <a:custGeom>
            <a:avLst/>
            <a:gdLst/>
            <a:ahLst/>
            <a:rect l="l" t="t" r="r" b="b"/>
            <a:pathLst>
              <a:path w="2448" h="1152">
                <a:moveTo>
                  <a:pt x="0" y="1152"/>
                </a:moveTo>
                <a:lnTo>
                  <a:pt x="720" y="1152"/>
                </a:lnTo>
                <a:lnTo>
                  <a:pt x="1680" y="0"/>
                </a:lnTo>
                <a:lnTo>
                  <a:pt x="24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228600" y="5883120"/>
            <a:ext cx="4191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vs. Soft Lim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4" descr="se04F31"/>
          <p:cNvPicPr/>
          <p:nvPr/>
        </p:nvPicPr>
        <p:blipFill>
          <a:blip r:embed="rId1"/>
          <a:stretch/>
        </p:blipFill>
        <p:spPr>
          <a:xfrm>
            <a:off x="2819520" y="228600"/>
            <a:ext cx="6095880" cy="595620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2"/>
          <p:cNvSpPr/>
          <p:nvPr/>
        </p:nvSpPr>
        <p:spPr>
          <a:xfrm>
            <a:off x="1747080" y="624852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ety of basic limiting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52280" y="152280"/>
            <a:ext cx="2286000" cy="114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single limiters employ one dio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152280" y="1371600"/>
            <a:ext cx="2286000" cy="14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double limiters employ two diodes of opposite pol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152280" y="2971800"/>
            <a:ext cx="2286000" cy="14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linear range may be controlled via string of diodes and dc sourc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52280" y="4572000"/>
            <a:ext cx="2286000" cy="14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zener diodes may  be used to implement soft limi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2514600" y="685800"/>
            <a:ext cx="914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Line 12"/>
          <p:cNvSpPr/>
          <p:nvPr/>
        </p:nvSpPr>
        <p:spPr>
          <a:xfrm>
            <a:off x="2590920" y="2057400"/>
            <a:ext cx="8380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Line 13"/>
          <p:cNvSpPr/>
          <p:nvPr/>
        </p:nvSpPr>
        <p:spPr>
          <a:xfrm flipV="1">
            <a:off x="2590920" y="3352320"/>
            <a:ext cx="43434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14"/>
          <p:cNvSpPr/>
          <p:nvPr/>
        </p:nvSpPr>
        <p:spPr>
          <a:xfrm>
            <a:off x="2514600" y="52578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5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5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5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lamped Capacitor or DC Restor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c restor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moves the dc 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n AC w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this ability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value of this output (w/ dc = 0) is effective way to measure duty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5925960" y="152280"/>
            <a:ext cx="2760840" cy="4832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23" name="Rectangle 2"/>
          <p:cNvSpPr/>
          <p:nvPr/>
        </p:nvSpPr>
        <p:spPr>
          <a:xfrm>
            <a:off x="5486400" y="5029200"/>
            <a:ext cx="34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mped capacitor or dc restorer with a square-wave input and no 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3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Voltage Doubl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voltage doubl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whic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ltiplies the amplitude of a w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signal by t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5" descr=""/>
          <p:cNvPicPr/>
          <p:nvPr/>
        </p:nvPicPr>
        <p:blipFill>
          <a:blip r:embed="rId1"/>
          <a:stretch/>
        </p:blipFill>
        <p:spPr>
          <a:xfrm>
            <a:off x="4619520" y="1528920"/>
            <a:ext cx="4295880" cy="39574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2"/>
          <p:cNvSpPr/>
          <p:nvPr/>
        </p:nvSpPr>
        <p:spPr>
          <a:xfrm>
            <a:off x="4648320" y="5486400"/>
            <a:ext cx="434340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4: 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tage doubler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veform of the voltage acros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the forward direction, the ideal diode conducts any current forced by the external circuit while displaying a zero-voltage dro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 ideal diode does not conduct in reverse direction; any applied voltage appears as reverse bias across the di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directional current flow property makes the diode useful in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 of rectifier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rward conduction of practical silicon-junction diodes is accurate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acterized by the relationship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V/V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silicon diode conducts a negligible current until the forward voltage is at least 0.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n, the current increases rapidly with the voltage drop increasing by 60mV for every decade of current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the reverse direction, a silicon diode conducts a current on the order of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-9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is current is much great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creases with the magnitude of reverse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yond a certain value of reverse voltage (that depends on the diode itself)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eakdown occu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urrent increases rapidly with a small corresponding increase in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s designed to operate in the breakdown region are called zener diod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y are employed in the design of voltage regulators whose function is to provide a constant dc voltage that varies little with variations in power supply voltage and / or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many applications, a conducting diode is modeled as having a constant voltage dr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usually with value of approximately 0.7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ode biased to operate at a dc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signal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tifiers covert ac voltage into unipolar voltages.  Half-wave rectifiers do this by passing the voltage in half of each cycle and blocking the opposite-polarity voltage in the other half of the cy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idge-rectifier circuit is the prefer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ull-wave rectifier configu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variation of the output waveform of the rectifier is reduced considerably by connecting a capacit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cross the output load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 resulting circuit is the peak rectifier.  The output waveform then consists of a dc voltage almost equal to the peak of the input sine wav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n which is superimposed a ripple component of frequency 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n the full-wave case) and of peak-to-peak amplitud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bination of diodes, resistors, and possible reference voltage can be used to design voltage limi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prevent one or both extremities of the output waveform from going beyond predetermined values – the limiting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a time-varying waveform to a circuit consisting of a capacitor in series with a diode and taking the output across the di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vides a clamping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ascading a clamping circuit with a peak-rectifier circuit,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doubler is re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7:38:28Z</dcterms:modified>
  <cp:revision>392</cp:revision>
  <dc:subject/>
  <dc:title>Slide 1</dc:title>
</cp:coreProperties>
</file>